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037-2AF9-40CE-A9A3-05237CC3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9DB-FCA0-41FF-8384-300FF4AE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642-BD2C-4B9A-B272-A5944B43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FA3-5198-48E5-9741-30872653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B20-5B60-4B91-A0CD-E3F1E19D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380-B4E2-4F9F-8ED9-1C6D7AE4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756-DAC9-4AB6-A76B-B442C019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6A3-7167-4A6D-8608-9B737F02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80F-A255-4F86-90B3-E1438DF9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514-B8E9-4E13-9953-EC8E8DAF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1C8-C9A2-49F5-A414-9C110243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1C7-A4AA-4A58-A8CA-9B9E5C6E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0401-8486-48C3-97EC-86DFE27EB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astellar"/>
              </a:rPr>
              <a:t>Mis Vacaciones en Buenos Aires, Argent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eah 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91000">
            <a:off x="456840" y="3886200"/>
            <a:ext cx="3200400" cy="2246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561800">
            <a:off x="5839920" y="4457880"/>
            <a:ext cx="3124440" cy="17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Balneari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606680"/>
            <a:ext cx="8229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ida Da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Hola! Hoy hace buen tiempo. Lo es soleado. Hoy lluege a la Plaza Hotel en Buenos Aires,Argentina.  La Plaza Hotel es my bonita ,muy grande, y muy populare. Yo fui con tus pardres y mi hermano. Yo trajo ropas muchas, uno traje de b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crema protectora, y una raqueta. Yo trajo una camera tambien. La Plaza Hotel no se tener una playa, sino hay es una playa cerca p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todo mi afec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7480" y="5181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22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304920" y="228600"/>
            <a:ext cx="2514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RGENT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La P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4765680"/>
            <a:ext cx="2819520" cy="2092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15238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70866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Querida Mikhal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¡Hola! Hace calor. Yo fui a la playa. Yo fui tabla hawiiana. No nado. Yo llueva crema protectora ,una traje de baño, una toalla, y gafas de sol. Yo era diversión. La playa ers muy bon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Be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Ale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81680" y="3276720"/>
            <a:ext cx="2362320" cy="158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22500" t="3331" r="20002" b="10004"/>
          <a:stretch/>
        </p:blipFill>
        <p:spPr>
          <a:xfrm>
            <a:off x="7391520" y="4876920"/>
            <a:ext cx="175248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LA 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STU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143000"/>
            <a:ext cx="58676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rida Ikeya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ce tiempo.Yo fui a la Pizza Plaza. La pizza era muy delicioso. Yo mucha pizza. Yo fui con mi famila. La musica era muy fantastico. La resturante es muy bonita tambi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os y abraz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SC02078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u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447920"/>
            <a:ext cx="723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077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ida Oliv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a! Hace sol. Yo fui a la Museum of Decorative Arts. La museum es muy bonita y muy grande. Yo fui era la famila. La Museum of Decorative Arts es fantastic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5:46:22Z</dcterms:created>
  <dc:creator>wilsonaleah</dc:creator>
  <dc:description/>
  <dc:language>en-US</dc:language>
  <cp:lastModifiedBy>Valued Customer</cp:lastModifiedBy>
  <dcterms:modified xsi:type="dcterms:W3CDTF">2012-12-01T02:09:52Z</dcterms:modified>
  <cp:revision>8</cp:revision>
  <dc:subject/>
  <dc:title>Mis Vacaciones en Buenos Aires, Argentina</dc:title>
</cp:coreProperties>
</file>